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B95B-21E9-49CE-9C5D-C6DD3A28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B24F-124C-4572-8C29-D065D792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7A95-09B3-4B50-9320-9FA58488B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25F4-F2D8-4C6B-AEC7-AB9CD545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B1C5-4480-42DC-BA48-D682E914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F477-5444-4BE5-8CF2-312F1CE0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D6C3-B91E-41EA-A6D1-B7E31328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AB3A-60FE-4897-B4CE-D005CC26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E354-5F2C-42A5-8022-91D3210E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2DA4-4909-4D0A-A668-96AFBC74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2642-C03F-466F-9A99-7F84BF66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F5DC-1EE3-48A8-8E15-E3B39646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3A29-5CA6-44A0-88D6-A48AE64E1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9999"/>
                </a:solidFill>
                <a:latin typeface="Arial"/>
              </a:rPr>
              <a:t>Me llamo____________ </a:t>
            </a:r>
            <a:r>
              <a:rPr b="0" lang="en-US" sz="3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9999"/>
                </a:solidFill>
                <a:latin typeface="Arial"/>
              </a:rPr>
              <a:t>     Clase 802</a:t>
            </a:r>
            <a:br>
              <a:rPr sz="3800"/>
            </a:br>
            <a:r>
              <a:rPr b="0" lang="en-US" sz="3800" spc="-1" strike="noStrike">
                <a:solidFill>
                  <a:srgbClr val="009999"/>
                </a:solidFill>
                <a:latin typeface="Arial"/>
              </a:rPr>
              <a:t>La fecha es el 3 de noviembre del 20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21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Miras fútbol en la televis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bel the parts of the bo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1"/>
          <a:stretch/>
        </p:blipFill>
        <p:spPr>
          <a:xfrm>
            <a:off x="3733920" y="3124080"/>
            <a:ext cx="3174840" cy="3733920"/>
          </a:xfrm>
          <a:prstGeom prst="rect">
            <a:avLst/>
          </a:prstGeom>
          <a:ln w="0">
            <a:noFill/>
          </a:ln>
        </p:spPr>
      </p:pic>
      <p:sp>
        <p:nvSpPr>
          <p:cNvPr id="44" name="Line 10"/>
          <p:cNvSpPr/>
          <p:nvPr/>
        </p:nvSpPr>
        <p:spPr>
          <a:xfrm flipH="1">
            <a:off x="3352680" y="56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11"/>
          <p:cNvSpPr/>
          <p:nvPr/>
        </p:nvSpPr>
        <p:spPr>
          <a:xfrm>
            <a:off x="4724280" y="5486400"/>
            <a:ext cx="228600" cy="304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2"/>
          <p:cNvSpPr/>
          <p:nvPr/>
        </p:nvSpPr>
        <p:spPr>
          <a:xfrm>
            <a:off x="5105520" y="6477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3"/>
          <p:cNvSpPr/>
          <p:nvPr/>
        </p:nvSpPr>
        <p:spPr>
          <a:xfrm>
            <a:off x="5257800" y="5791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 flipH="1" flipV="1">
            <a:off x="2971800" y="47242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5"/>
          <p:cNvSpPr/>
          <p:nvPr/>
        </p:nvSpPr>
        <p:spPr>
          <a:xfrm flipV="1">
            <a:off x="5715000" y="411444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6"/>
          <p:cNvSpPr/>
          <p:nvPr/>
        </p:nvSpPr>
        <p:spPr>
          <a:xfrm flipH="1">
            <a:off x="2819520" y="3733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7"/>
          <p:cNvSpPr/>
          <p:nvPr/>
        </p:nvSpPr>
        <p:spPr>
          <a:xfrm flipV="1">
            <a:off x="5791320" y="495252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2971800" y="54100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2514600" y="3505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6858000" y="47242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2666880" y="4572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2"/>
          <p:cNvSpPr/>
          <p:nvPr/>
        </p:nvSpPr>
        <p:spPr>
          <a:xfrm>
            <a:off x="6705720" y="62485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3"/>
          <p:cNvSpPr/>
          <p:nvPr/>
        </p:nvSpPr>
        <p:spPr>
          <a:xfrm>
            <a:off x="6400800" y="38862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4"/>
          <p:cNvSpPr/>
          <p:nvPr/>
        </p:nvSpPr>
        <p:spPr>
          <a:xfrm>
            <a:off x="6781680" y="562284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9067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b050"/>
                </a:solidFill>
                <a:latin typeface="Arial"/>
              </a:rPr>
              <a:t>I-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Vocabulari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según el vocabulario indic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ego lanza el balón con ___________.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foo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Él no lanza el balón con _________.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h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ambién lanza el balón con ________.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he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 no lanza el balón con _________.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ego es un jugador muy bueno porque tiene ____________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legs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fuer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b050"/>
                </a:solidFill>
                <a:latin typeface="Arial"/>
              </a:rPr>
              <a:t>II-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l futbo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: Copia y 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 ¿Cuántos jugadores hay en el equipo de futbol?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o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. ¿Cuántos tiempos hay en un partido de futbol?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d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3. ¿Quién guarda la portería?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el porte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. ¿Cuándo mete un gol el jugador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cuando el balón entra en la porterí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. ¿Qué marca un jugador cuando el balón entra en la portería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un ta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6. En el estadio, ¿Qué indica el tablero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el ta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7. ¿Cuándo queda empatado el tanto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cuando los dos equipos tienen el mismo ta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84582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III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dentif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C:\Users\Faculty\AppData\Local\Temp\20141103_140819-1.jpg"/>
          <p:cNvPicPr/>
          <p:nvPr/>
        </p:nvPicPr>
        <p:blipFill>
          <a:blip r:embed="rId1"/>
          <a:stretch/>
        </p:blipFill>
        <p:spPr>
          <a:xfrm>
            <a:off x="4567320" y="76320"/>
            <a:ext cx="41958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320" y="73152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b050"/>
                </a:solidFill>
                <a:latin typeface="Arial"/>
              </a:rPr>
              <a:t>V-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lete with any appropriate vocabulary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ndo juegan (al) fútbol, los jugadores no pueden tocar el balón con 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marcar un tanto el balón tiene que entrar en la 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ndo empieza el segundo ___________, los jugadores vuelven al ta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uegan (al) futbol en el _______ de futb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jugador ________ un tanto cuando ________ un g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el tanto no queda ___________, un equipo gana el partido y el otro equipo 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2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LOS DEPOR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3:46:55Z</dcterms:created>
  <dc:creator>Helen Zumaeta</dc:creator>
  <dc:description/>
  <dc:language>en-US</dc:language>
  <cp:lastModifiedBy>Helen Zumaeta</cp:lastModifiedBy>
  <cp:lastPrinted>2014-11-03T20:19:30Z</cp:lastPrinted>
  <dcterms:modified xsi:type="dcterms:W3CDTF">2014-11-03T21:18:45Z</dcterms:modified>
  <cp:revision>26</cp:revision>
  <dc:subject/>
  <dc:title>Me llamo____________  Clase 7 IL La fecha es el 4 de noviembre del 2010</dc:title>
</cp:coreProperties>
</file>